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9E8-81C1-4EDB-A202-A3C98D68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8BE-E3CB-4518-9181-B5A6C1E8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7E8-66ED-4465-9F79-2E48A3E1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79F-F01C-439C-B0C8-92368997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0B91-9CCB-4113-A664-A253FC84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44F3-2FEC-458A-9F11-5B48196E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F722-D4F7-42C7-92B9-6013F64B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BEAB-5341-480B-B04F-9DA57E4F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A94E-727C-4FE2-835B-BADEA60B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1642-5453-4444-88FB-BDBDDA13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2229-5387-40BB-A881-0BC3816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9EF-92D7-492C-B3B4-4B499A93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9709-3B38-435B-BF83-43DC9637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3408-DA92-46A2-ACC1-1F87B98C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C048-D928-4B0E-AC74-7C0EBDB6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F506-84A5-4A2C-901A-259A4D7D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CAF7-734B-4CB1-A80B-1029477D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D08-8B7B-411E-A158-5C357526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B16-FD9B-42D1-AF57-C4B6A426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99A-89C8-4EB1-A5FE-264BAF51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8CE-B823-41AA-87C5-5CDE3B9F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D9C-5F85-40C5-A951-C5662443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5AA-FF6C-446F-85FC-F4F482B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2F0-0258-4215-8392-3DB2D4A9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A061-A0B0-4D4D-8FC5-44FC4DF6D5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F713-82AD-4B5A-AF2E-955BFB4F45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63640" y="134136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Comic Sans MS"/>
              </a:rPr>
              <a:t>МЕТОДИКА БЕЗОПАСНОСТИ </a:t>
            </a:r>
            <a:r>
              <a:rPr b="0" lang="en-US" sz="3200" spc="-1" strike="noStrike">
                <a:solidFill>
                  <a:srgbClr val="080808"/>
                </a:solidFill>
                <a:latin typeface="Comic Sans MS"/>
              </a:rPr>
              <a:t>HACCP </a:t>
            </a:r>
            <a:r>
              <a:rPr b="0" lang="ru-RU" sz="3200" spc="-1" strike="noStrike">
                <a:solidFill>
                  <a:srgbClr val="080808"/>
                </a:solidFill>
                <a:latin typeface="Comic Sans MS"/>
              </a:rPr>
              <a:t>ДЛЯ ВАРЕНОЙ КОЛБА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404640"/>
            <a:ext cx="525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новным требованием к качеству вареной колбасы является безопасность для жизни и здоровья потребителей. Опасность и риск для здоровья могут быть выявлены биологическими, физическими, химическими и радиационного воздействия продукта на человеческий организ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20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Схема технологического процесс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1557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95640" y="2205000"/>
            <a:ext cx="5267160" cy="2782440"/>
            <a:chOff x="2195640" y="2205000"/>
            <a:chExt cx="5267160" cy="2782440"/>
          </a:xfrm>
        </p:grpSpPr>
        <p:sp>
          <p:nvSpPr>
            <p:cNvPr id="105" name=""/>
            <p:cNvSpPr/>
            <p:nvPr/>
          </p:nvSpPr>
          <p:spPr>
            <a:xfrm>
              <a:off x="3337920" y="2813400"/>
              <a:ext cx="1080" cy="64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95640" y="3462120"/>
              <a:ext cx="2286000" cy="342720"/>
            </a:xfrm>
            <a:prstGeom prst="rect">
              <a:avLst/>
            </a:prstGeom>
            <a:solidFill>
              <a:srgbClr val="ff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2 Разделка свежего мяс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52160" y="2324160"/>
              <a:ext cx="2238840" cy="491400"/>
            </a:xfrm>
            <a:prstGeom prst="rect">
              <a:avLst/>
            </a:prstGeom>
            <a:solidFill>
              <a:srgbClr val="ff66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1 Получение свежего мяс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Контроль качеств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14960" y="3348000"/>
              <a:ext cx="2057400" cy="457200"/>
            </a:xfrm>
            <a:prstGeom prst="rect">
              <a:avLst/>
            </a:prstGeom>
            <a:solidFill>
              <a:srgbClr val="00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вручную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24520" y="2205000"/>
              <a:ext cx="2438280" cy="799920"/>
            </a:xfrm>
            <a:prstGeom prst="rect">
              <a:avLst/>
            </a:prstGeom>
            <a:solidFill>
              <a:srgbClr val="00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вручную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мясо частично разделано, упаковано в пленку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09760" y="4491000"/>
              <a:ext cx="2028600" cy="496440"/>
            </a:xfrm>
            <a:prstGeom prst="rect">
              <a:avLst/>
            </a:prstGeom>
            <a:solidFill>
              <a:srgbClr val="ff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3 Промежуточное хранение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14960" y="4491000"/>
              <a:ext cx="2019240" cy="496440"/>
            </a:xfrm>
            <a:prstGeom prst="rect">
              <a:avLst/>
            </a:prstGeom>
            <a:solidFill>
              <a:srgbClr val="00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Холодильная камера</a:t>
              </a:r>
              <a:r>
                <a:rPr b="1" lang="it-IT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,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≈</a:t>
              </a:r>
              <a:r>
                <a:rPr b="1" lang="ru-RU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1" lang="it-IT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4</a:t>
              </a:r>
              <a:r>
                <a:rPr b="1" lang="it-IT" sz="1100" spc="-1" strike="noStrike" baseline="30000">
                  <a:solidFill>
                    <a:srgbClr val="080808"/>
                  </a:solidFill>
                  <a:latin typeface="Arial"/>
                  <a:ea typeface="Arial"/>
                </a:rPr>
                <a:t>O</a:t>
              </a:r>
              <a:r>
                <a:rPr b="1" lang="it-IT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C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37920" y="3805200"/>
              <a:ext cx="1080" cy="64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932360" y="155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Техника/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изводственные стадии 1 – 3 во временном отношении протекают отдельно от самого производства колбасных издел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течение одного рабочего дня производится или доставка мяса и его подготовка или непосредственно само производство колба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адия производственного процесса 4 (измельчение мяса на мясорубке) всегда должна осуществляться в день, когда происходит непосредственно производство колбасы, т.к. хранение фарша с гигиенической точки зрения является очень критичным из-за увеличения поверхности мясной массы по сравнению с кусковым мясом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835280" y="476280"/>
            <a:ext cx="4996800" cy="6006600"/>
            <a:chOff x="1835280" y="476280"/>
            <a:chExt cx="4996800" cy="6006600"/>
          </a:xfrm>
        </p:grpSpPr>
        <p:sp>
          <p:nvSpPr>
            <p:cNvPr id="119" name=""/>
            <p:cNvSpPr/>
            <p:nvPr/>
          </p:nvSpPr>
          <p:spPr>
            <a:xfrm>
              <a:off x="1835280" y="744840"/>
              <a:ext cx="2210040" cy="568800"/>
            </a:xfrm>
            <a:prstGeom prst="rect">
              <a:avLst/>
            </a:prstGeom>
            <a:solidFill>
              <a:srgbClr val="ff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4 Измельчение,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смешивание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50560" y="13251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2040" y="476280"/>
              <a:ext cx="2210040" cy="1028520"/>
            </a:xfrm>
            <a:prstGeom prst="rect">
              <a:avLst/>
            </a:prstGeom>
            <a:solidFill>
              <a:srgbClr val="00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Мясорубка и кутте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или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мясорубка и шнековая фаршемешалк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54440" y="1796400"/>
              <a:ext cx="1981440" cy="914400"/>
            </a:xfrm>
            <a:prstGeom prst="rect">
              <a:avLst/>
            </a:prstGeom>
            <a:solidFill>
              <a:srgbClr val="ff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5 Подготовка к заполнению оболоче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(заполнение воронки шприца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88800" y="2025000"/>
              <a:ext cx="1600200" cy="457200"/>
            </a:xfrm>
            <a:prstGeom prst="rect">
              <a:avLst/>
            </a:prstGeom>
            <a:solidFill>
              <a:srgbClr val="00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Шприц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4440" y="2939400"/>
              <a:ext cx="1981440" cy="571320"/>
            </a:xfrm>
            <a:prstGeom prst="rect">
              <a:avLst/>
            </a:prstGeom>
            <a:solidFill>
              <a:srgbClr val="ff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6 Заполнение колбасных оболочек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88800" y="2939400"/>
              <a:ext cx="1600200" cy="457200"/>
            </a:xfrm>
            <a:prstGeom prst="rect">
              <a:avLst/>
            </a:prstGeom>
            <a:solidFill>
              <a:srgbClr val="00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Шприц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59360" y="3854160"/>
              <a:ext cx="1295640" cy="342720"/>
            </a:xfrm>
            <a:prstGeom prst="rect">
              <a:avLst/>
            </a:prstGeom>
            <a:solidFill>
              <a:srgbClr val="ff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7 Варка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45160" y="271080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45160" y="351108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88800" y="3625560"/>
              <a:ext cx="1600200" cy="799920"/>
            </a:xfrm>
            <a:prstGeom prst="rect">
              <a:avLst/>
            </a:prstGeom>
            <a:solidFill>
              <a:srgbClr val="00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Варочный котел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97520" y="4767840"/>
              <a:ext cx="1295640" cy="342720"/>
            </a:xfrm>
            <a:prstGeom prst="rect">
              <a:avLst/>
            </a:prstGeom>
            <a:solidFill>
              <a:srgbClr val="ff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8 Копчение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45160" y="4196160"/>
              <a:ext cx="0" cy="57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88800" y="4653720"/>
              <a:ext cx="1562040" cy="571320"/>
            </a:xfrm>
            <a:prstGeom prst="rect">
              <a:avLst/>
            </a:prstGeom>
            <a:solidFill>
              <a:srgbClr val="00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Коптильная каме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97520" y="5454360"/>
              <a:ext cx="1295640" cy="342720"/>
            </a:xfrm>
            <a:prstGeom prst="rect">
              <a:avLst/>
            </a:prstGeom>
            <a:solidFill>
              <a:srgbClr val="ff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9 Хранение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88800" y="5340240"/>
              <a:ext cx="1562040" cy="571320"/>
            </a:xfrm>
            <a:prstGeom prst="rect">
              <a:avLst/>
            </a:prstGeom>
            <a:solidFill>
              <a:srgbClr val="00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Холодильная камера, ≈ 4</a:t>
              </a:r>
              <a:r>
                <a:rPr b="1" lang="en-US" sz="1100" spc="-1" strike="noStrike" baseline="30000">
                  <a:solidFill>
                    <a:srgbClr val="080808"/>
                  </a:solidFill>
                  <a:latin typeface="Arial"/>
                  <a:ea typeface="Arial"/>
                </a:rPr>
                <a:t>O</a:t>
              </a: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C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45160" y="511164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2600" y="6140160"/>
              <a:ext cx="1905120" cy="342720"/>
            </a:xfrm>
            <a:prstGeom prst="rect">
              <a:avLst/>
            </a:prstGeom>
            <a:solidFill>
              <a:srgbClr val="ff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80808"/>
                  </a:solidFill>
                  <a:latin typeface="Arial"/>
                  <a:ea typeface="Arial"/>
                </a:rPr>
                <a:t>10 Доставк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45160" y="579744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значительной степени безопасность вареной колбасы определяе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войствами сырь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технологическими методами и прием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свойствами материалов для изготовления инвентаря, оборудования, тары и упаков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соблюдением санитарно-гигиенических требо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вязи с этим можно разделить факторы потенциальной опасности вареной колбасы  для организма человека на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ырьевой, технологический, технический и санитарно-гигиенически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Каждый из  них может являться источником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биологической, физической, химической или радиационной опасно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отдельности или в сочет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Сырьевой факто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Качество используемого сырья напрямую связано с формированием готового продукта. К переработке на колбасные изделия допускаются мясо,  шпик,  признанные  при ветеринарно-санитарной  экспертизе  доброкачественными,  имеющие  на   тушах клейма ветнадзора, а на привозное мясо ветеринарное свидетельство по   форме. Нельзя использовать в колбасном производстве мясо, пораженное  плесенью, ослизненное,  с  кровяными  сгустками,  загрязненное,  имеющее  загар.  Его подработка осуществляется вне помещении колбасного це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92360" y="549360"/>
            <a:ext cx="648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Технологический факто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Применение стандартных производственных технологических приемов сводит к минимума все факторы опасности при незначительных моментов рис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Технический факто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орудование, аппаратура, инвентарь, посуда и тара, находясь в тесном контакте с сырьем на пути его превращения в готовый продукт, не могут не оказывать существенно влияние на его качество. В связи с этим оборудование и аппаратуру, инвентарь, посуду, тару необходимо изготавливать из материала, не оказывающих вредного воздействия на продукты, химически устойчивых, не подвергающихся коррозии, выдерживающих неоднократные операции мойки и дезинфекции, легко поддающихся очистки и санитарной обработке, на адсорбирующих ве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Санитарно-гигиенический фактор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объектам санитарно-гигиенического контроля относят: оборудование, аппаратуру, посуду, инвентарь, руки, спецодежду работников, воду, используемую в производстве, воздух производственных помещений, а также материалы производства. Несоблюдение санитарно-гигиенических требований является причиной потенциальной опас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водя итог, можно сказать, что если предотвратить грубые нарушения гигиенических требований, а также и вторичную контаминацию сырья, то инфекционная опасность, вызываемая патогенными возбудителями при употреблении вареной колбасы, очень м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тя вареная колбаса при условии технологических регламентов считаются надежными в микробиологическом отношении продуктами, приведенные аргументы и примеры однозначно свидетельствуют о том, что и на этом производстве для обеспечения качества и безопасности выпускаемой продукции работа должна осуществляться по принципам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CCP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73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абочая группа:</a:t>
            </a:r>
            <a:br>
              <a:rPr sz="3200"/>
            </a:br>
            <a:br>
              <a:rPr sz="3200"/>
            </a:br>
            <a:r>
              <a:rPr b="0" lang="ru-RU" sz="2000" spc="-1" strike="noStrike">
                <a:solidFill>
                  <a:srgbClr val="e5ffff"/>
                </a:solidFill>
                <a:latin typeface="Symbol"/>
                <a:ea typeface="Symbol"/>
              </a:rPr>
              <a:t>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Специалист по обеспечению качества – Альмагамбетова Д.С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Symbol"/>
                <a:ea typeface="Symbol"/>
              </a:rPr>
              <a:t>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Специалист по производству – Могилина Т.Н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Symbol"/>
                <a:ea typeface="Symbol"/>
              </a:rPr>
              <a:t>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Главный инженер – Комутова У.Н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Symbol"/>
                <a:ea typeface="Symbol"/>
              </a:rPr>
              <a:t>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Инженер-технолог – Тюекпаева З.Б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Symbol"/>
                <a:ea typeface="Symbol"/>
              </a:rPr>
              <a:t>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Специалист по микробиологии – Бижанова А.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итическими пределами для контрольной точки «Хранение готовой продукции на складе» опасными факторами являю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бактерии группы кишечной палочки (БГКП).Могут попасть в готовую продукцию воздушным путем, через больных людей и животных, насекомых, грызун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дрожжи (при пастеризации полностью погибают, но могут   попасть   в   готовую   продукцию   из окружающей   среды   во   время хранен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плесени (невработанная влага, пустот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вредные   вещества  (мышьяк,   ртуть,   кадмий,   свинец),   пестициды   и радионуклиды  (цезий  -   137,  стронций  -  90).  Могут  попасть в готовую продукцию из окружающей среды, причем, загрязнения из внешней среды довольно стабильны и имеют тенденцию к увеличению токсич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382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явить содержание в готовой продукции вышеуказанных опасных факторов можно проведением соответствующих анализов, установленных нормативной документацией на методы испыт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6292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ериями допустимого риска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БГКП - масса продукта (г), в которой не допускаются более 0,01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дрожжей - количество колонеобразующих единиц в 1 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укта должно быть меньше или равно 50 КОЕ/г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плесени - количество колонеобразующих единиц в 1 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укта должно быть меньше или равно 100 КОЕ/г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держание вредных веществ, пестицидов и радионуклидов в 1  кг продукта не должно превышать критических пределов. мышьяк - 0,3 мг/кг;  ртуть - 0,02 мг/кг;   кадмий - 0,1 мг/кг;  свинец -0,5 мг/кг гексахлорциклогексан (а, р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у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омеры) - 0,2 мг/кг;    ДДТ и его метаболиты - 0,02 мг/кг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зий - 137-50 мг/кг; стронций - 90 - 30 мг/к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езультате проведенной работы был выявлен общий перечень потенциально опасных факторов (биологических, химических, физически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дя оценку рисков выявилось, что три фактора попадают в область не допустимого риска, следовательно, на определенных этапах производства не обходимо ужесточить контроль предотвращающий условие возникновения угроз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критической контрольной точки "хранение продукции" в случае нарушения опасными факторами критических пределов должны быть предприняты следующие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орректирующие действ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для дрожжей и плесени – необходимо провести внеплановую дезинфекцию складского помещения и обеспечить строгое соблюдение условий хранения готовой продукции (температура, влажность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ля вредных веществ, пестицидов и радионуклидов - необходимо провести внеплановую проверку исправности приточно-вытяжной вентиляции, местных отсосов, вытяжных зонтов; провести очистку воздуха в производственных и бытовых помещениях и, для предупреждения накапливания вредных веществ в воздухе, проводить систематическую вентиляцию производственных, бытовых и складских помещ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219280" y="836280"/>
            <a:ext cx="36831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лизация систем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C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 предприятиях даст следующие преимущест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истем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C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зволит защитить фирменную марку предприят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аст возможность выхода предприятия на внешний рын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4863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330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даст преимущества при участии в важных тендер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позволит повысить степень доверия потребителя и  заручиться  поддержкой местной администр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система является весомым аргументом в судебных тяжбах, так как признается страховыми компаниями при страховании ответствен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373716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колбас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1268280"/>
            <a:ext cx="75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денная работа позволит предприятию обеспечить потребителя безопасной продукцие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489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басные изделия – это продукты, изготовленные из мясного фарша с солью и специями, в оболочке или без неё и подвергнутые термической обработке или ферментации до готовности к употреблени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672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тория колба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вые письменные упоминания о колбасе можно встретить в китайских, вавилонских и греческих источниках примерно в 500 г. до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России мастерские по производству колбас появились в XVII ве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 началу 20 века в России насчитывалось более 2500 колбасных фабрик и мастерск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435640" y="1413000"/>
            <a:ext cx="324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ареная колба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это колбаса, подвергнутая обжарке с следующей варк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4356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ареные  колба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24000" y="1989000"/>
            <a:ext cx="26636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ктор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лоч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юбитель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ай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варен кол"/>
          <p:cNvPicPr/>
          <p:nvPr/>
        </p:nvPicPr>
        <p:blipFill>
          <a:blip r:embed="rId2"/>
          <a:stretch/>
        </p:blipFill>
        <p:spPr>
          <a:xfrm>
            <a:off x="250920" y="1700280"/>
            <a:ext cx="3456000" cy="355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варен "/>
          <p:cNvPicPr/>
          <p:nvPr/>
        </p:nvPicPr>
        <p:blipFill>
          <a:blip r:embed="rId3"/>
          <a:stretch/>
        </p:blipFill>
        <p:spPr>
          <a:xfrm>
            <a:off x="4356000" y="3789360"/>
            <a:ext cx="40388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03280" y="16286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125360"/>
            <a:ext cx="388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Вареные колбасы изготавливаются из просоленного фарша. Их варят при температуре около 80 градусов. Вареные колбасы могут содержать большое количество сои, а могут быть и вегетарианскими с соей или сейтаном вместо мяса. Из-за содержания большого количества воды долго не храня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Качественные показатели: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Внешний вид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: батоны должны быть с чистой сухой поверхностью, без повреждения оболочки, наплывов фарша, слипов, бульонных и жировых отёков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Вид батона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: не допускаются к реализации вареные колбасы, имеющие загрязненные оболочки, погнутые или поломанные батоны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Фарш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а разрезе должен быть розовым или светло-розовым, равномерно перемешанным, без посторонних включений, серых пятен и крупных пустот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Запах 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– свойственный данному виду продукта с ароматом пряностей, без постороннего запаха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Вкус 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– свойственный данному виду продукта, в меру соленый, без постороннего привкуса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7:05:35Z</dcterms:created>
  <dc:creator>SamLab.ws</dc:creator>
  <dc:description/>
  <dc:language>en-US</dc:language>
  <cp:lastModifiedBy>SamLab.ws</cp:lastModifiedBy>
  <dcterms:modified xsi:type="dcterms:W3CDTF">2011-12-13T18:55:12Z</dcterms:modified>
  <cp:revision>2</cp:revision>
  <dc:subject/>
  <dc:title>Слайд 1</dc:title>
</cp:coreProperties>
</file>